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6.wmf" ContentType="image/x-wmf"/>
  <Override PartName="/ppt/media/image16.png" ContentType="image/png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18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5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91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3880" y="4213440"/>
            <a:ext cx="7391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1144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3360" y="190512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2480" y="190512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23880" y="421344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3360" y="421344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2480" y="421344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563-8D0E-4164-811D-A4FBCBFD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794-0272-4AF2-9FDA-FCAD3D05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790-184F-4A83-B30A-51D9F634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06B-7797-4F5B-9AF7-5461DE0E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B60-924D-41DE-8E74-99B5C2C8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60195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A96-12B8-445C-8533-F88E9BF0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C23-E81F-445A-B02B-EC94B411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1144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864-8297-41F5-AF52-0C92D51D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7391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471-6FC2-484A-9A9B-A76888B9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91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523880" y="4213440"/>
            <a:ext cx="7391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863-E3A8-4AF6-B6B5-3F068842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1144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4CE-9DCF-4E01-9107-56C7928D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23360" y="190512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2480" y="190512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523880" y="421344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023360" y="421344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2480" y="421344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10C-D349-42A2-BC67-3937B3B6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60195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1144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7391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871560" indent="-28584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290600" indent="-22860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709640" indent="-22860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128680" indent="-22860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128680" indent="-22860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128680" indent="-22860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13440" y="1523880"/>
            <a:ext cx="485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第二章  微型计算机接口技术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1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4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DBF9-7CC1-45E1-9BCC-3DBAF973E50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40.xml"/><Relationship Id="rId11" Type="http://schemas.openxmlformats.org/officeDocument/2006/relationships/slide" Target="slide40.xml"/><Relationship Id="rId12" Type="http://schemas.openxmlformats.org/officeDocument/2006/relationships/slide" Target="slide40.xml"/><Relationship Id="rId13" Type="http://schemas.openxmlformats.org/officeDocument/2006/relationships/slide" Target="slide47.xml"/><Relationship Id="rId14" Type="http://schemas.openxmlformats.org/officeDocument/2006/relationships/slide" Target="slide47.xml"/><Relationship Id="rId15" Type="http://schemas.openxmlformats.org/officeDocument/2006/relationships/slide" Target="slide47.xml"/><Relationship Id="rId16" Type="http://schemas.openxmlformats.org/officeDocument/2006/relationships/slide" Target="slide47.xml"/><Relationship Id="rId17" Type="http://schemas.openxmlformats.org/officeDocument/2006/relationships/slide" Target="slide47.xml"/><Relationship Id="rId18" Type="http://schemas.openxmlformats.org/officeDocument/2006/relationships/slide" Target="slide47.xml"/><Relationship Id="rId19" Type="http://schemas.openxmlformats.org/officeDocument/2006/relationships/slide" Target="slide61.xml"/><Relationship Id="rId20" Type="http://schemas.openxmlformats.org/officeDocument/2006/relationships/slide" Target="slide70.xml"/><Relationship Id="rId2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36.xml"/><Relationship Id="rId12" Type="http://schemas.openxmlformats.org/officeDocument/2006/relationships/slide" Target="slide36.xml"/><Relationship Id="rId13" Type="http://schemas.openxmlformats.org/officeDocument/2006/relationships/slide" Target="slide36.xml"/><Relationship Id="rId14" Type="http://schemas.openxmlformats.org/officeDocument/2006/relationships/slide" Target="slide36.xml"/><Relationship Id="rId15" Type="http://schemas.openxmlformats.org/officeDocument/2006/relationships/slide" Target="slide36.xml"/><Relationship Id="rId1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2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" Target="slide43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8.xml"/><Relationship Id="rId3" Type="http://schemas.openxmlformats.org/officeDocument/2006/relationships/slide" Target="slide48.xml"/><Relationship Id="rId4" Type="http://schemas.openxmlformats.org/officeDocument/2006/relationships/slide" Target="slide48.xml"/><Relationship Id="rId5" Type="http://schemas.openxmlformats.org/officeDocument/2006/relationships/slide" Target="slide48.xml"/><Relationship Id="rId6" Type="http://schemas.openxmlformats.org/officeDocument/2006/relationships/slide" Target="slide48.xml"/><Relationship Id="rId7" Type="http://schemas.openxmlformats.org/officeDocument/2006/relationships/slide" Target="slide55.xml"/><Relationship Id="rId8" Type="http://schemas.openxmlformats.org/officeDocument/2006/relationships/slide" Target="slide55.xml"/><Relationship Id="rId9" Type="http://schemas.openxmlformats.org/officeDocument/2006/relationships/slide" Target="slide55.xml"/><Relationship Id="rId10" Type="http://schemas.openxmlformats.org/officeDocument/2006/relationships/slide" Target="slide55.xml"/><Relationship Id="rId11" Type="http://schemas.openxmlformats.org/officeDocument/2006/relationships/slide" Target="slide55.xml"/><Relationship Id="rId12" Type="http://schemas.openxmlformats.org/officeDocument/2006/relationships/slide" Target="slide55.xml"/><Relationship Id="rId1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2.xml"/><Relationship Id="rId3" Type="http://schemas.openxmlformats.org/officeDocument/2006/relationships/slide" Target="slide62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章  微型计算机接口技术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600" y="1676520"/>
            <a:ext cx="5410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1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D/A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转换器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2.2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6" action="ppaction://hlinksldjump"/>
              </a:rPr>
              <a:t>MCS-51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7" action="ppaction://hlinksldjump"/>
              </a:rPr>
              <a:t>和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D/A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转换器的接口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0" action="ppaction://hlinksldjump"/>
              </a:rPr>
              <a:t>2.3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1" action="ppaction://hlinksldjump"/>
              </a:rPr>
              <a:t>A/D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2" action="ppaction://hlinksldjump"/>
              </a:rPr>
              <a:t>转换器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3" action="ppaction://hlinksldjump"/>
              </a:rPr>
              <a:t>2.4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4" action="ppaction://hlinksldjump"/>
              </a:rPr>
              <a:t>MCS-51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5" action="ppaction://hlinksldjump"/>
              </a:rPr>
              <a:t>和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6" action="ppaction://hlinksldjump"/>
              </a:rPr>
              <a:t>A/D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7" action="ppaction://hlinksldjump"/>
              </a:rPr>
              <a:t>转换器的接口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8" action="ppaction://hlinksldjump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9" action="ppaction://hlinksldjump"/>
              </a:rPr>
              <a:t>2.5  数据的采样及保持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0" action="ppaction://hlinksldjump"/>
              </a:rPr>
              <a:t>2.6  常用输出驱动电路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引脚功能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3047760" cy="4267440"/>
          </a:xfrm>
          <a:prstGeom prst="rect">
            <a:avLst/>
          </a:prstGeom>
          <a:noFill/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芯片为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引脚，双列直插式封装。其引脚排列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数字量输入线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~D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条）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控制线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条）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输出线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条）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电源线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条）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55360" y="579132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4  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引脚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7335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3. DAC083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技术指标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主要技术指标：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分辨率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位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电流建立时间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µS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线性度（在整个温度范围内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位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增益温度系数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000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％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S/℃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低功耗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0mW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单一电源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+5 ~ +15V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057400" y="9144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因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是电流输出型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芯片，为了取得电压输出，需在电流输出端接运算放大器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1" lang="zh-CN" sz="2800" spc="-1" strike="noStrike" baseline="-30000">
                <a:solidFill>
                  <a:srgbClr val="eaeaea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为运算放大器的反馈电阻端。运算放大器的接法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37600" y="609588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5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运算放大器接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43434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09680" y="9144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2  MCS-5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D/A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的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25840" y="2437920"/>
            <a:ext cx="56037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2.1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DAC0832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的应用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6" action="ppaction://hlinksldjump"/>
              </a:rPr>
              <a:t>2.2.2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7" action="ppaction://hlinksldjump"/>
              </a:rPr>
              <a:t>MCS-51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和8位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DAC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0" action="ppaction://hlinksldjump"/>
              </a:rPr>
              <a:t>的接口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1" action="ppaction://hlinksldjump"/>
              </a:rPr>
              <a:t>2.2.3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2" action="ppaction://hlinksldjump"/>
              </a:rPr>
              <a:t>MCS-51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3" action="ppaction://hlinksldjump"/>
              </a:rPr>
              <a:t>和12位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4" action="ppaction://hlinksldjump"/>
              </a:rPr>
              <a:t>DAC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5" action="ppaction://hlinksldjump"/>
              </a:rPr>
              <a:t>的接口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60195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2.1  DAC083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应用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05320" y="20570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单极性输出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双极性输出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60195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单极性输出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需要单极性输出的情况下，可以采用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6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接线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77720" y="601992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6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极性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接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286000" y="3048120"/>
            <a:ext cx="43434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双极性输出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在需要双极性输出的情况下，可以采用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7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接线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55360" y="579132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7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双极性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接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572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3124080"/>
          <a:ext cx="6476760" cy="225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3124080"/>
                    <a:ext cx="6476760" cy="22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904760" y="761760"/>
            <a:ext cx="65530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，运算放大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A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作用是将运算放大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A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１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单向输出转变为双向输出。表达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的比例关系可以用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来表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69396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134480" y="2286000"/>
            <a:ext cx="790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8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双极性输出线性关系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2.2  MCS-5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DAC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1980720"/>
            <a:ext cx="444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直通方式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单缓冲方式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双缓冲方式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838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直通方式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133720" y="2514600"/>
          <a:ext cx="624816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514600"/>
                    <a:ext cx="62481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52480" y="1066320"/>
            <a:ext cx="6881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微机的各种接口中，完成外设信号到微机所需数字信号转换的，称为模拟∕数字转换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）器；完成微机输出数字信号到外设所需信号转换的，称为数字∕模拟转换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）器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igital to Analog Conver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是一种能把数字量转换成模拟量的电子器件；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nalog to Digital Conver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则相反，它能把模拟量转换成相应的数字量。在微机控制系统中，经常要用到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。它们的功能及在实时控制系统中的地位，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单缓冲方式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3720" y="1447560"/>
            <a:ext cx="63244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谓的单缓冲方式就是使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两个输入寄存器中有一个处于直通方式，而另一个处于受控的锁存方式。在实际应用中，如果只有一路模拟量输出。单缓冲方式接线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670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14600" y="3429000"/>
          <a:ext cx="5181480" cy="237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429000"/>
                    <a:ext cx="518148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971800" y="6095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9  DAC083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缓冲方式接口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09680" y="11426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1  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作波形发生器。试根据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接线，分别写出产生锯齿波、三角波和方波的程序，产生的波形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133720" y="3124080"/>
            <a:ext cx="6172200" cy="165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40960" y="5486400"/>
            <a:ext cx="30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0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产生的波形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133360" y="837720"/>
            <a:ext cx="64767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解：由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9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可以看出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采用的是单缓冲单极性的接线方式，它的选通地址为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7FFF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锯齿波程序：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0000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7FFF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输入寄存器地址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CL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转换初值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转换值增量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N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延时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NOP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NOP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 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三角波程序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7010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0100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CL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7FFF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OWN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线性下降段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                                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JNZ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OWN                       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FE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置上升阶段初值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U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线性上升段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E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JNZ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UP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OWN                   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方波程序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0" y="1752120"/>
            <a:ext cx="6324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0200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7FFF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33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置上限电平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         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CALL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ELAY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形成方波顶宽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FF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置下限电平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CALL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ELAY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形成方波底宽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双缓冲方式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62320" y="2057040"/>
            <a:ext cx="5943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谓双缓冲方式，就是把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两个锁存器都接成受控锁存方式。双缓冲方式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连接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1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99760" y="5105520"/>
            <a:ext cx="39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1  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双缓冲方式接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048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905120" y="1981080"/>
          <a:ext cx="6933960" cy="217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981080"/>
                    <a:ext cx="693396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981080" y="1447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2  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作波形发生器。试根据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接线，分别写出产生锯齿波、三角波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方波的程序，产生的波形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133720" y="3352680"/>
            <a:ext cx="6248160" cy="169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69560" y="5410080"/>
            <a:ext cx="30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2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产生的波形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676160" y="15235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0000H                                     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#80H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转换初值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#0FEH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输入寄存器地址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 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转换数据送输入寄存器 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产生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DAC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寄存器地址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 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数据送入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DAC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寄存器并进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DEC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转换值减少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NOP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延时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NOP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NOP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CJNE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#0FFH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-5V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是否输出？未输出，程序循环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-5V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已输出，返回转换初值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685800"/>
            <a:ext cx="6781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解：由图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2-11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可以看出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采用的是双缓冲双极性的接线方式，输入寄存器的地址为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FEH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AC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寄存器的地址为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FFH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。锯齿波程序：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6094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三角波程序：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38280" y="1523520"/>
            <a:ext cx="5639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0100H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#0FFH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DOWN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#0FEH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；线性下降段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R0                                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DEC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JNZ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DOWN                       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UP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#0FEH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；线性上升段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 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R0                                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     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JNZ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UP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#0FEH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DOWN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485880" y="556272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片机和被控实体间的接口示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5740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81080" y="1676520"/>
          <a:ext cx="6324840" cy="31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676520"/>
                    <a:ext cx="632484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761760"/>
            <a:ext cx="60195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方波程序：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019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0200H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#66H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#0FEH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置上限电平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                 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           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CALL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ELAY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形成方波顶宽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#00H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置下限电平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#0FEH   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 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                 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CALL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ELAY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形成方波底宽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LOOP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904760" y="1523880"/>
            <a:ext cx="693396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3  X-Y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绘图仪与双片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接线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1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内部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中有两个长度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数据块，其起始地址分别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60H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，请根据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1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，编出能把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60H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中的数据分别从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输出，并根据所给数据绘制出一条曲线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9552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057400" y="1295280"/>
          <a:ext cx="5791320" cy="43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295280"/>
                    <a:ext cx="5791320" cy="43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802240" y="6019920"/>
            <a:ext cx="43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13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控制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X-Y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绘图仪的双片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接口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905120" y="1523880"/>
            <a:ext cx="67816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解：根据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接线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各端口的地址为：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D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数字量输入寄存器地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E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4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数字量输入寄存器地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F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4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启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地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R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寄存器指向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6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元；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指向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元，并同时作为两个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端口地址指针；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R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寄存器存放数据块长度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28800" y="1218960"/>
            <a:ext cx="8177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0000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7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3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数据块长度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60H              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20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PUS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保存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地址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中的数据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FD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指向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0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的数字量输入寄存器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中的数据送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0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6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中的数据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修改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6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地址指针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6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中的数据送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0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启动两片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同时进行转换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P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恢复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地址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修改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地址指针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JNZ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7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数据未传送完，继续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2.3  MCS-5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DAC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120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内部结构和引脚结构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120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内部结构如下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，引脚结构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7172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828800" y="2514600"/>
          <a:ext cx="6172200" cy="34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617220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755880" y="617220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2-14  DAC1208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内部框图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761640" y="5943600"/>
            <a:ext cx="30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5  DAC120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引脚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2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666880" y="1295280"/>
          <a:ext cx="5257800" cy="43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95280"/>
                    <a:ext cx="525780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057400" y="1066680"/>
            <a:ext cx="5867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120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接线方式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6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5200" y="533412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6  80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120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连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099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981080" y="2057400"/>
          <a:ext cx="6858000" cy="25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057400"/>
                    <a:ext cx="68580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133720" y="1980720"/>
            <a:ext cx="596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解：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转换的程序为：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0000H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#0FFH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输入寄存器地址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1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#21H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1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高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数字量送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高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数字量送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输入寄存器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EC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EC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1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1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低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数字量送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SWAP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中高低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互换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低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数字量送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输入寄存器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EC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启动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53352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.4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设内部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AM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的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1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内存放一个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数字量（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中为低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1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中为高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），试根据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16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编写出将它们进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转换的程序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83808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1  D/A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28520" y="2361960"/>
            <a:ext cx="6086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1.1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D/A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转换器的原理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2.1.2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6" action="ppaction://hlinksldjump"/>
              </a:rPr>
              <a:t>D/A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7" action="ppaction://hlinksldjump"/>
              </a:rPr>
              <a:t>转换器的性能指标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2.1.3  典型的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D/A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0" action="ppaction://hlinksldjump"/>
              </a:rPr>
              <a:t>转换器芯片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1" action="ppaction://hlinksldjump"/>
              </a:rPr>
              <a:t>DAC0832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800" y="7617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3  A/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109600" y="2361960"/>
            <a:ext cx="69577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3.1  逐次逼近式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A/D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转换器的工作原理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2.3.2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6" action="ppaction://hlinksldjump"/>
              </a:rPr>
              <a:t>A/D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7" action="ppaction://hlinksldjump"/>
              </a:rPr>
              <a:t>转换器的性能指标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2.3.3  典型的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A/D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0" action="ppaction://hlinksldjump"/>
              </a:rPr>
              <a:t>转换芯片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1" action="ppaction://hlinksldjump"/>
              </a:rPr>
              <a:t>ADC0809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2.3.1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逐次逼近式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A/D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转换器的工作原理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逐次逼近式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是一种采用对分搜索原理来实现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的方法，逻辑框图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03360" y="5791320"/>
            <a:ext cx="40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7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逐次逼近式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逻辑框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3832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133720" y="2590920"/>
          <a:ext cx="6019560" cy="286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590920"/>
                    <a:ext cx="601956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3.2  A/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的性能指标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76360" y="2057040"/>
            <a:ext cx="4367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精度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时间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分辨率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电源灵敏度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3.3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典型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A/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芯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ADC0809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629400" cy="1295280"/>
          </a:xfrm>
          <a:prstGeom prst="rect">
            <a:avLst/>
          </a:prstGeom>
          <a:noFill/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 fontScale="93000"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. ADC080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的内部逻辑结构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路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路模拟量开关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C080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内部逻辑结构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83160" y="6019920"/>
            <a:ext cx="32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18  ADC0809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内部逻辑结构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66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666880" y="3048120"/>
          <a:ext cx="4953240" cy="274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048120"/>
                    <a:ext cx="495324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828800" y="533160"/>
            <a:ext cx="6858000" cy="1447560"/>
          </a:xfrm>
          <a:prstGeom prst="rect">
            <a:avLst/>
          </a:prstGeom>
          <a:noFill/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引脚结构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C080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采用双列直插式封装，共有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条引脚。其引脚结构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33560" y="557676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363840" cy="4114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785640" y="2835360"/>
            <a:ext cx="4852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19  ADC0809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引脚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15960" y="1905120"/>
            <a:ext cx="6183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引脚结构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IN</a:t>
            </a:r>
            <a:r>
              <a:rPr b="1" lang="zh-CN" sz="2800" spc="-1" strike="noStrike" baseline="-30000">
                <a:solidFill>
                  <a:srgbClr val="eaeaea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~IN</a:t>
            </a:r>
            <a:r>
              <a:rPr b="1" lang="zh-CN" sz="2800" spc="-1" strike="noStrike" baseline="-30000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条模拟量输入通道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地址输入和控制线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条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数字量输出及控制线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条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电源线及其他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条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Arial"/>
                <a:ea typeface="黑体"/>
              </a:rPr>
              <a:t>表</a:t>
            </a:r>
            <a:r>
              <a:rPr b="1" lang="zh-CN" sz="2800" spc="-1" strike="noStrike">
                <a:solidFill>
                  <a:srgbClr val="eaeaea"/>
                </a:solidFill>
                <a:latin typeface="Arial"/>
                <a:ea typeface="Arial"/>
              </a:rPr>
              <a:t>2-1   </a:t>
            </a:r>
            <a:r>
              <a:rPr b="1" lang="zh-CN" sz="2800" spc="-1" strike="noStrike">
                <a:solidFill>
                  <a:srgbClr val="eaeaea"/>
                </a:solidFill>
                <a:latin typeface="Arial"/>
                <a:ea typeface="黑体"/>
              </a:rPr>
              <a:t>被选通道和地址的关系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5410440" cy="3265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4  MCS-5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A/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的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361960" y="2590560"/>
            <a:ext cx="55306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4.1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MCS-51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和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ADC0809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6" action="ppaction://hlinksldjump"/>
              </a:rPr>
              <a:t>的接口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7" action="ppaction://hlinksldjump"/>
              </a:rPr>
              <a:t>2.4.2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MCS-51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0" action="ppaction://hlinksldjump"/>
              </a:rPr>
              <a:t>对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1" action="ppaction://hlinksldjump"/>
              </a:rPr>
              <a:t>AD574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2" action="ppaction://hlinksldjump"/>
              </a:rPr>
              <a:t>的接口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4.1  MCS-5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ADC080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57400" y="1523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C0809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接线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2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766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8760" y="586728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0  ADC080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接线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766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209680" y="2438280"/>
          <a:ext cx="5639040" cy="312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2438280"/>
                    <a:ext cx="563904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828440" y="7621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.5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如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2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所示，试用查询和中断两种方式编写程序，对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</a:t>
            </a:r>
            <a:r>
              <a:rPr b="1" lang="zh-CN" sz="2000" spc="-1" strike="noStrike" baseline="-30000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通道上的数据进行采集，并将转换结果送入内部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AM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。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解：中断方式程序清单：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0000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7FF5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启动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ETB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ETB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X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开外中断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ETB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T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外中断请求信号为下跳沿触发方式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等待中断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1.1  D/A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的原理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器有并行和串行两种，在工业控制中，主要使用并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器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器的原理可以归纳为“按权展开，然后相加”。因此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器内部必须要有一个解码网络，以实现按权值分别进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解码网络通常有两种：二进制加权电阻网络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型电阻网络。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981080" y="16761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断服务程序：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0013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外中断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入口地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LJMP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00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转中断服务程序的入口地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000H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读取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数据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存储数据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RE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中断返回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904760" y="12952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查询方式程序清单：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0000H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#7FF5H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启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J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3.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等待转换结束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读取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数据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存储数据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6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，试编程对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个模拟通道上的模拟电压进行一遍数字采集，并将采集结果送入内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RAM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元为始地址的输入缓冲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0040" y="6095880"/>
            <a:ext cx="33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21  803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DC0809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的接口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5736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905120" y="2666880"/>
          <a:ext cx="6629400" cy="30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666880"/>
                    <a:ext cx="662940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828440" y="6091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解：从图中可以看出，接线方式为中断方式。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D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D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D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三端接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0.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0.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0.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故通道号是通过数据线来选择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2286000"/>
            <a:ext cx="6093000" cy="38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程序清单：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0000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3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数据区始地址送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7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8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通道数送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6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</a:t>
            </a:r>
            <a:r>
              <a:rPr b="1" lang="zh-CN" sz="2000" spc="-1" strike="noStrike" baseline="-30000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地址送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E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84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开中断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ETB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T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外中断请求信号为下跳沿触发方式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F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送端口地址到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6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</a:t>
            </a:r>
            <a:r>
              <a:rPr b="1" lang="zh-CN" sz="2000" spc="-1" strike="noStrike" baseline="-30000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地址送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启动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等待中断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905120" y="1066680"/>
            <a:ext cx="6705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中断服务程序：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0013H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外中断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的入口地址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JMP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1000H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转中断服务程序的入口地址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1000H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@R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读入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转换数据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将转换后的数据存入数据区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数据区指针加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6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模拟通道号加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6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新的模拟通道号送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@R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启动下一通道的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DJNZ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7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路采样未结束，则转向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1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CLR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EX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路采样结束，关中断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ETI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中断返回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4.2  MCS-5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对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AD57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120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引脚功能 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57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脚双列直插式封装，引脚排列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2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3276360" cy="23526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861600" y="3429000"/>
            <a:ext cx="485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22  AD574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引脚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934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结构特点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①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57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内部集成有转换时钟，参考电压源和三态输出锁存器，因此使用方便，可直接和微机接口，不需要外接时钟电路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②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C0809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输入模拟电压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+5V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，是单极性的。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57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输入模拟电压既可是单极性也可是双极性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③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57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数字量的位数可以设定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位，也可设定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位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828800" y="5335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. 80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AD57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的接口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出了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57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片机的接口电路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75960" y="6172200"/>
            <a:ext cx="29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2-23   AD574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与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接口电路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670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981080" y="1676520"/>
          <a:ext cx="6172200" cy="423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676520"/>
                    <a:ext cx="617220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930840" y="601992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4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极性输入电路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957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362320" y="1143000"/>
          <a:ext cx="5562360" cy="448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143000"/>
                    <a:ext cx="556236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981080" y="12193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7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，试编写程序，使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 57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进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位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，并把转换后的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位数字量存入内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1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元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元存放高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位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1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元存放低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位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解：程序清单如下：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0000H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#2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数据区首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#0FF7CH          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启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为了说明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型电阻网络的工作原理，现以四位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为例加以讨论，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21640" y="5791320"/>
            <a:ext cx="35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  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型电阻网络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335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33720" y="2133720"/>
          <a:ext cx="6019560" cy="308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133720"/>
                    <a:ext cx="6019560" cy="308448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7524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JB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P1.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转换是否结束，未结束，等待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FF7D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读高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数据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存高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数据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读低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数据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NL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F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屏蔽高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随机数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存低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数据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5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数据的采样及保持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52320" y="2285640"/>
            <a:ext cx="44420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5.1  多路转换开关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2.5.2  数据采样定理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2.5.3  采样/保持器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5.1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多路转换开关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. CD4051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CD405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单边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通道多路调制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多路解调器。其引脚结构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为二进制控制输入端，改变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数值，可以译出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种状态，并选中其中之一，使输入输出接通。当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INH=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时，通道断开；当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INH=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时，通道接通。改变图中 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IN/OUT0~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及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UT/I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传递方向，则可用作多路开关或反多路开关。其真值表如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256280" y="2895480"/>
            <a:ext cx="245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25  CD405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引脚图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124080" y="3352680"/>
          <a:ext cx="4362480" cy="25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3352680"/>
                    <a:ext cx="436248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4173840" y="6095880"/>
            <a:ext cx="23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Arial"/>
                <a:ea typeface="黑体"/>
              </a:rPr>
              <a:t>表</a:t>
            </a:r>
            <a:r>
              <a:rPr b="1" lang="zh-CN" sz="2000" spc="-1" strike="noStrike">
                <a:solidFill>
                  <a:srgbClr val="eaeaea"/>
                </a:solidFill>
                <a:latin typeface="Arial"/>
                <a:ea typeface="Arial"/>
              </a:rPr>
              <a:t>2-3  CD4051</a:t>
            </a:r>
            <a:r>
              <a:rPr b="1" lang="zh-CN" sz="2000" spc="-1" strike="noStrike">
                <a:solidFill>
                  <a:srgbClr val="eaeaea"/>
                </a:solidFill>
                <a:latin typeface="Arial"/>
                <a:ea typeface="黑体"/>
              </a:rPr>
              <a:t>真值表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3276720" y="457200"/>
            <a:ext cx="38862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133360" y="13712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多路转换开关的扩展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当采样的通道比较多，可以将两个或两个以上的多路开关并联起来，组成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×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6×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多路开关。下面以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CD405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为例说明多路开关的扩展方法。两个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路开关扩展成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路的多路开关的方法，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26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009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9908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981080" y="2133720"/>
          <a:ext cx="6782040" cy="227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33720"/>
                    <a:ext cx="678204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2976480" y="5105520"/>
            <a:ext cx="48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26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用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CD405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多路开关组成的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路模拟开关接线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057040" y="1523880"/>
            <a:ext cx="2590920" cy="4572000"/>
          </a:xfrm>
          <a:prstGeom prst="rect">
            <a:avLst/>
          </a:prstGeom>
          <a:noFill/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离散系统的采样形式有周期采样、多阶采样和随机采样。周期采样应用最为广泛。所谓周期采样就是以相同的时间间隔进行采样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给出了采样前后波形的变化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75200" y="5867280"/>
            <a:ext cx="41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1" lang="zh-CN" sz="18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）图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2-27  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采样前后波形的变化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380880"/>
            <a:ext cx="6019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5.2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数据采样定理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9009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40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904760" y="15238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采样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保持器的作用是：在采样时，其输出能够跟随输入变化；而在保持状态时，能使输出值不变。其输入输出特性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00600" y="5943600"/>
            <a:ext cx="30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28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采样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保持器的输入输出特性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380880"/>
            <a:ext cx="6019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5.3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采样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保持器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514600" y="3124080"/>
          <a:ext cx="5562720" cy="239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124080"/>
                    <a:ext cx="556272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057400" y="990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采样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保持器的工作原理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最简单的采样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保持器是由开关和电容组成，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29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5334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9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最简单的采样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保持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624852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2057400" y="13712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常用的采样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保持器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随着大规模集成电路的发展，已生产出各种各样的采样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保持器。如用于一般目的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58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58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LF198/39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等；用于高速的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S-002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S-006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C-003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C-15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等；用于高分辨率的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SHA114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C113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9009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1.2  D/A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的性能指标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9000" y="1828440"/>
            <a:ext cx="45957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分辨率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精度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偏移量误差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建立时间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04760" y="83808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2.6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常用输出驱动电路 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42840" y="2285640"/>
            <a:ext cx="4732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6.1  白炽灯驱动接口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6.2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光电隔离器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6.1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白炽灯驱动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9343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CJ045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驱动器对白炽灯驱动的典型应用电路。驱动器输出驱动电流为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00~500m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。当单片机的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1.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输出低电平时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CJ045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驱动器的输出晶体管导通，灯泡上有电流流过而点亮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1280" y="6248520"/>
            <a:ext cx="29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30  CJ045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驱动灯泡的应用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009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590920" y="3581280"/>
            <a:ext cx="54100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6.2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光电隔离器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二极管用于保护驱动器，当驱动器由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变为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时，继电器由接通转为关断，由于继电器线圈是感性负载，会产生很高的感应电动势，二极管提供的泄流回路能保护隔离器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继电器隔离适用于控制对响应速度要求不高的启停设备。对启停时间很短的开关量输出控制系统，应采用光电耦合器。光电耦合器所需的驱动电流小，在硬件设计时，只需要一般的三态门即可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为快速驱动直流负载的光电隔离电路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601800" y="504972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1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开关量输出隔离电路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68580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121640" y="510552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2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光电耦合控制直流电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9009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3836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362320" y="1828800"/>
          <a:ext cx="6248160" cy="28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828800"/>
                    <a:ext cx="624816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23880" y="22856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Times New Roman"/>
              </a:rPr>
              <a:t>本章到此结束，</a:t>
            </a:r>
            <a:endParaRPr b="1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Times New Roman"/>
              </a:rPr>
              <a:t>谢谢您的光临！</a:t>
            </a:r>
            <a:endParaRPr b="1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endshow"/>
          </p:cNvPr>
          <p:cNvSpPr/>
          <p:nvPr/>
        </p:nvSpPr>
        <p:spPr>
          <a:xfrm>
            <a:off x="5481720" y="628452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1080" y="9903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2.1.3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典型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转换器芯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DAC0832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520" y="2514240"/>
            <a:ext cx="45669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内部结构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引脚功能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技术指标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1. DAC083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内部结构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内部由三部分电路组成，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64520" y="6095880"/>
            <a:ext cx="25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3  DAC083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原理框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667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57400" y="1981080"/>
          <a:ext cx="6400800" cy="377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981080"/>
                    <a:ext cx="640080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5:49:02Z</dcterms:created>
  <dc:creator>新人电脑</dc:creator>
  <dc:description/>
  <dc:language>en-US</dc:language>
  <cp:lastModifiedBy>li</cp:lastModifiedBy>
  <dcterms:modified xsi:type="dcterms:W3CDTF">2002-02-01T06:43:46Z</dcterms:modified>
  <cp:revision>68</cp:revision>
  <dc:subject/>
  <dc:title>第二章  微型计算机接口技术 </dc:title>
</cp:coreProperties>
</file>